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16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3040" y="3733200"/>
            <a:ext cx="82216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0304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41576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982960" y="11250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762520" y="11250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03040" y="37332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982960" y="37332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762520" y="37332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03040" y="1125000"/>
            <a:ext cx="822168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16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2680" y="360360"/>
            <a:ext cx="87678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304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03040" y="1125000"/>
            <a:ext cx="822168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1576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3040" y="3733200"/>
            <a:ext cx="82216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16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03040" y="3733200"/>
            <a:ext cx="82216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0304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1576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982960" y="11250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62520" y="11250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03040" y="37332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982960" y="37332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762520" y="3733200"/>
            <a:ext cx="26470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16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02680" y="360360"/>
            <a:ext cx="87678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304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15760" y="37332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15760" y="1125000"/>
            <a:ext cx="4011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3040" y="3733200"/>
            <a:ext cx="822168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7861320" y="6343560"/>
          <a:ext cx="1176480" cy="41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61320" y="6343560"/>
                    <a:ext cx="11764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2680" y="360360"/>
            <a:ext cx="87678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03040" y="1125000"/>
            <a:ext cx="82216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6881760" y="6399360"/>
            <a:ext cx="863640" cy="3823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1000080"/>
            <a:ext cx="9150480" cy="46080"/>
          </a:xfrm>
          <a:prstGeom prst="rect">
            <a:avLst/>
          </a:prstGeom>
          <a:gradFill rotWithShape="0">
            <a:gsLst>
              <a:gs pos="0">
                <a:srgbClr val="6a839c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440" y="928800"/>
            <a:ext cx="9150480" cy="27000"/>
          </a:xfrm>
          <a:prstGeom prst="rect">
            <a:avLst/>
          </a:prstGeom>
          <a:gradFill rotWithShape="0">
            <a:gsLst>
              <a:gs pos="0">
                <a:srgbClr val="6a839c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960480"/>
            <a:ext cx="9150480" cy="4608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440" y="903240"/>
            <a:ext cx="9150480" cy="2700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440" y="6224760"/>
            <a:ext cx="9150480" cy="4572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440" y="6251400"/>
            <a:ext cx="9150480" cy="63720"/>
          </a:xfrm>
          <a:prstGeom prst="rect">
            <a:avLst/>
          </a:prstGeom>
          <a:gradFill rotWithShape="0">
            <a:gsLst>
              <a:gs pos="0">
                <a:srgbClr val="6a839c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509760" y="6448320"/>
            <a:ext cx="124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1" lang="en-US" sz="12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57240" y="641520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BA075-DBA6-421E-A886-E5F87646A3C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2680" y="360360"/>
            <a:ext cx="87678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03040" y="1125000"/>
            <a:ext cx="82216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28760" y="1076400"/>
            <a:ext cx="70200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600000"/>
                </a:solidFill>
                <a:latin typeface="Arial"/>
              </a:rPr>
              <a:t>Meta-Programming with Modelica</a:t>
            </a:r>
            <a:br>
              <a:rPr sz="4000"/>
            </a:br>
            <a:br>
              <a:rPr sz="3600"/>
            </a:br>
            <a:r>
              <a:rPr b="1" lang="en-US" sz="3600" spc="-1" strike="noStrike">
                <a:solidFill>
                  <a:srgbClr val="600000"/>
                </a:solidFill>
                <a:latin typeface="Arial"/>
              </a:rPr>
              <a:t>for MetaModeling and Model Transformations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44880" y="4691160"/>
            <a:ext cx="5280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600000"/>
                </a:solidFill>
                <a:latin typeface="Arial"/>
              </a:rPr>
              <a:t>Peter Fritzson, Adrian Pop, Martin Sjöl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600000"/>
                </a:solidFill>
                <a:latin typeface="Arial"/>
              </a:rPr>
              <a:t>OpenModelica Course, 2010-11-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03040" y="6480"/>
            <a:ext cx="89409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imple Expression Interpreter – with equation keyword, match, c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22440" y="1536840"/>
            <a:ext cx="5903640" cy="4484520"/>
            <a:chOff x="622440" y="1536840"/>
            <a:chExt cx="5903640" cy="4484520"/>
          </a:xfrm>
        </p:grpSpPr>
        <p:sp>
          <p:nvSpPr>
            <p:cNvPr id="172" name=""/>
            <p:cNvSpPr/>
            <p:nvPr/>
          </p:nvSpPr>
          <p:spPr>
            <a:xfrm>
              <a:off x="754200" y="1687680"/>
              <a:ext cx="5541840" cy="4333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2440" y="1536840"/>
              <a:ext cx="5576760" cy="437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63480" y="1554120"/>
              <a:ext cx="5862600" cy="43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function eval "Evaluates integer expression trees"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input  Exp     exp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output Integer intval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intval :=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matchcontinue exp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local Integer v1,v2; Exp e1,e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 INTconst(v1) then v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 PLUSop(e1,e2) equation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+v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 SUBop(e1,e2) equation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-v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 MULop(e1,e2) equation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*v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 DIVop(e1,e2) equation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/v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 NEGop(e1) equatio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val(e1) = v1; then  -v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nd matchcontinu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nd eval;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6975360" y="2646360"/>
            <a:ext cx="2409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600000"/>
                </a:solidFill>
                <a:latin typeface="Arial"/>
              </a:rPr>
              <a:t>Local variables with scope inside case express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85960" y="2825640"/>
            <a:ext cx="2724120" cy="23652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54360" y="2914560"/>
            <a:ext cx="22482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89760" y="3801960"/>
            <a:ext cx="202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600000"/>
                </a:solidFill>
                <a:latin typeface="Arial"/>
              </a:rPr>
              <a:t>Local equations with local unknowns v1, v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55760" y="3935520"/>
            <a:ext cx="3233880" cy="21564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45080" y="3929040"/>
            <a:ext cx="20826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00920" y="4361040"/>
            <a:ext cx="127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600000"/>
                </a:solidFill>
                <a:latin typeface="Arial"/>
              </a:rPr>
              <a:t>A returned valu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38640" y="4329000"/>
            <a:ext cx="630360" cy="24156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99240" y="4451400"/>
            <a:ext cx="11048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77160" y="3179880"/>
            <a:ext cx="2166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600000"/>
                </a:solidFill>
                <a:latin typeface="Arial"/>
              </a:rPr>
              <a:t>Pattern binding local pattern variables e1,  e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11440" y="3287880"/>
            <a:ext cx="1353960" cy="22860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81160" y="3321000"/>
            <a:ext cx="392436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03040" y="-6480"/>
            <a:ext cx="89409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Transformation Example</a:t>
            </a:r>
            <a:br>
              <a:rPr sz="2800"/>
            </a:b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imple Symbolic Differentia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3040" y="1125360"/>
            <a:ext cx="597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77840" y="1095480"/>
            <a:ext cx="4341600" cy="5024160"/>
            <a:chOff x="177840" y="1095480"/>
            <a:chExt cx="4341600" cy="5024160"/>
          </a:xfrm>
        </p:grpSpPr>
        <p:sp>
          <p:nvSpPr>
            <p:cNvPr id="190" name=""/>
            <p:cNvSpPr/>
            <p:nvPr/>
          </p:nvSpPr>
          <p:spPr>
            <a:xfrm>
              <a:off x="247680" y="1247760"/>
              <a:ext cx="4271760" cy="4871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7840" y="1130400"/>
              <a:ext cx="4294080" cy="492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8080" y="1095480"/>
              <a:ext cx="4225680" cy="43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protected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function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diff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inpu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Exp expr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inpu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v-SE" sz="1400" spc="-1" strike="noStrike">
                  <a:solidFill>
                    <a:srgbClr val="00008b"/>
                  </a:solidFill>
                  <a:latin typeface="Courier New"/>
                </a:rPr>
                <a:t>String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timevar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outpu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Exp diffExpr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diffExpr :=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matchcontinu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(expr,timevar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local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8b"/>
                  </a:solidFill>
                  <a:latin typeface="Courier New"/>
                </a:rPr>
                <a:t>String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id,id1,id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xp e1prim,e2prim,e1,e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8200"/>
                  </a:solidFill>
                  <a:latin typeface="Courier New"/>
                </a:rPr>
                <a:t>// der of constan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(INT(_), _)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INT(</a:t>
              </a:r>
              <a:r>
                <a:rPr b="1" lang="sv-SE" sz="1400" spc="-1" strike="noStrike">
                  <a:solidFill>
                    <a:srgbClr val="8b008b"/>
                  </a:solidFill>
                  <a:latin typeface="Courier New"/>
                </a:rPr>
                <a:t>0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8200"/>
                  </a:solidFill>
                  <a:latin typeface="Courier New"/>
                </a:rPr>
                <a:t>// der of time variabl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(IDENT(id1), id2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tru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= id1 ==&amp; id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INT(</a:t>
              </a:r>
              <a:r>
                <a:rPr b="1" lang="sv-SE" sz="1400" spc="-1" strike="noStrike">
                  <a:solidFill>
                    <a:srgbClr val="8b008b"/>
                  </a:solidFill>
                  <a:latin typeface="Courier New"/>
                </a:rPr>
                <a:t>1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8200"/>
                  </a:solidFill>
                  <a:latin typeface="Courier New"/>
                </a:rPr>
                <a:t>// </a:t>
              </a:r>
              <a:r>
                <a:rPr b="1" lang="sv-SE" sz="1200" spc="-1" strike="noStrike">
                  <a:solidFill>
                    <a:srgbClr val="008200"/>
                  </a:solidFill>
                  <a:latin typeface="Courier New"/>
                </a:rPr>
                <a:t>der of time-independent variabl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(IDENT(_), _)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INT(</a:t>
              </a:r>
              <a:r>
                <a:rPr b="1" lang="sv-SE" sz="1400" spc="-1" strike="noStrike">
                  <a:solidFill>
                    <a:srgbClr val="8b008b"/>
                  </a:solidFill>
                  <a:latin typeface="Courier New"/>
                </a:rPr>
                <a:t>0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648320" y="1095480"/>
            <a:ext cx="4356000" cy="5048280"/>
            <a:chOff x="4648320" y="1095480"/>
            <a:chExt cx="4356000" cy="5048280"/>
          </a:xfrm>
        </p:grpSpPr>
        <p:sp>
          <p:nvSpPr>
            <p:cNvPr id="194" name=""/>
            <p:cNvSpPr/>
            <p:nvPr/>
          </p:nvSpPr>
          <p:spPr>
            <a:xfrm>
              <a:off x="4719600" y="1247760"/>
              <a:ext cx="4284720" cy="489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48320" y="1130400"/>
              <a:ext cx="4306680" cy="494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76760" y="1095480"/>
              <a:ext cx="4238640" cy="45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8200"/>
                  </a:solidFill>
                  <a:latin typeface="Courier New"/>
                </a:rPr>
                <a:t>// (e1+e2)’ =&gt; e1’+e2’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(ADD(e1,e2),id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1prim = diff(e1,id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2prim = diff(e2,id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ADD(e1prim,e2prim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8200"/>
                  </a:solidFill>
                  <a:latin typeface="Courier New"/>
                </a:rPr>
                <a:t>// (e1/e2)’ =&gt; (e1’*e2 – e1*e2’)/e2*e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(DIV(e1,e2),id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1prim = diff(e1,id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2prim = diff(e2,id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DIV(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SUB(MUL(e1prim,e2),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 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MUL(e1,e2prim)),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MUL(e2,e2)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8200"/>
                  </a:solidFill>
                  <a:latin typeface="Courier New"/>
                </a:rPr>
                <a:t>// (-e1)’ =&gt; -e1’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(NEG(e1),id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1prim = diff(e1,id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NEG(e1prim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General Syntactic Structure of match-expres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3040" y="1125360"/>
            <a:ext cx="1359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447920" y="1206360"/>
            <a:ext cx="6805440" cy="4329360"/>
            <a:chOff x="1447920" y="1206360"/>
            <a:chExt cx="6805440" cy="4329360"/>
          </a:xfrm>
        </p:grpSpPr>
        <p:sp>
          <p:nvSpPr>
            <p:cNvPr id="200" name=""/>
            <p:cNvSpPr/>
            <p:nvPr/>
          </p:nvSpPr>
          <p:spPr>
            <a:xfrm>
              <a:off x="1569960" y="1325520"/>
              <a:ext cx="6683400" cy="4210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47920" y="1206360"/>
              <a:ext cx="6683400" cy="421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55840" y="1222200"/>
              <a:ext cx="664056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matchcontinue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&lt;expr&gt;  &lt;opt-local-decl&gt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&lt;pat-expr&gt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lt;opt-equations&gt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then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lt;expr&gt;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&lt;pat-expr&gt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lt;opt-equations&gt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then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lt;expr&gt;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ls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lt;opt-equations&gt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then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lt;expr&gt;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nd 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matchcontinue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01520" y="231840"/>
            <a:ext cx="911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emantics of Local Equations in match-Expres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03040" y="1125360"/>
            <a:ext cx="845820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algebraic equations are allowed, no differential equ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locally declared variables (local unknowns) declared by local declarations within the case expression are solved f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ations are solved in the order they are declared. (This restriction may be removed in the future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n equation or an expression in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branch of a matchcontinue-expression fails, all local variables become unbound, and matching continues with the next branch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1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01520" y="371520"/>
            <a:ext cx="911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emantics of Local Equations  cont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3040" y="1125360"/>
            <a:ext cx="840744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rtain equations in match-expressions do not solve for any variables – they may be called "constraints"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ll variables are already bound in these eq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The equation may either be fulfilled (succeed) or not (fai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us, there can locally be more equations than unbound variables, if including the constrai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201680" y="3262320"/>
            <a:ext cx="4557600" cy="1598760"/>
            <a:chOff x="1201680" y="3262320"/>
            <a:chExt cx="4557600" cy="1598760"/>
          </a:xfrm>
        </p:grpSpPr>
        <p:sp>
          <p:nvSpPr>
            <p:cNvPr id="208" name=""/>
            <p:cNvSpPr/>
            <p:nvPr/>
          </p:nvSpPr>
          <p:spPr>
            <a:xfrm>
              <a:off x="1282680" y="3308400"/>
              <a:ext cx="4476600" cy="1552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01680" y="3262320"/>
              <a:ext cx="4476960" cy="155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local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Real x=5; Integer y = 10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true = x&gt;4;   // Succeeds!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true = y&lt;10;  // Fails!!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List Data Struc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03040" y="1125360"/>
            <a:ext cx="869976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type-expr&gt; is a list type constru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type RealList =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Re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gt;;   type is a list of re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Re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gt;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rlis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          variable that is a list of re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el1,el2,el3, ...) is a list data constructor that creates a list of elements of identical typ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{}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() empty l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{2,3,4}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(2,3,4) list of integ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 {el1,el2,el3, ...} overloaded array or list constructor, interpreted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...)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...) depending on type contex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} or list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notes an empty reference to a list or tree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dds an element in front of the lis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returns the resulting lis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so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perator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What Does PolyMorphic Mea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3040" y="1125360"/>
            <a:ext cx="89409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lyMorphic – adapt to multiple typ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ly – multiple, morphic – adap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64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ndard – An operation is only defined for one type, e.g.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arrayInsertElement(intelement, intArr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polymorphic function is defined for multiple types, e.g. elements in an array can be of any type: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arrayInsertElement(anyElement, anyArr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Predefined Polymorphic List 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03040" y="1125360"/>
            <a:ext cx="597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27080" y="1171440"/>
            <a:ext cx="4470480" cy="5023080"/>
            <a:chOff x="127080" y="1171440"/>
            <a:chExt cx="4470480" cy="5023080"/>
          </a:xfrm>
        </p:grpSpPr>
        <p:sp>
          <p:nvSpPr>
            <p:cNvPr id="217" name=""/>
            <p:cNvSpPr/>
            <p:nvPr/>
          </p:nvSpPr>
          <p:spPr>
            <a:xfrm>
              <a:off x="200160" y="1324080"/>
              <a:ext cx="4397400" cy="48704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7080" y="1204920"/>
              <a:ext cx="4419360" cy="492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5520" y="1171440"/>
              <a:ext cx="4349880" cy="39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pend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list&lt;Eltype&gt; lst3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eplaceable type Eltyp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subtypeof Any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pend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vers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list&lt;Eltype&gt; lst3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eplaceable type Eltyp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subtypeof Any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vers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gt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Integer len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eplaceable type Eltyp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subtypeof Any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gth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711680" y="1158840"/>
            <a:ext cx="4430880" cy="5048280"/>
            <a:chOff x="4711680" y="1158840"/>
            <a:chExt cx="4430880" cy="5048280"/>
          </a:xfrm>
        </p:grpSpPr>
        <p:sp>
          <p:nvSpPr>
            <p:cNvPr id="221" name=""/>
            <p:cNvSpPr/>
            <p:nvPr/>
          </p:nvSpPr>
          <p:spPr>
            <a:xfrm>
              <a:off x="4782960" y="1311120"/>
              <a:ext cx="4359600" cy="489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11680" y="1193760"/>
              <a:ext cx="4381560" cy="494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41920" y="1158840"/>
              <a:ext cx="4311720" cy="47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mbe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Eltype elem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Boolean result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eplaceable type Eltyp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subtypeof Any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mber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t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Integer elindex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Eltype elem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eplaceable type Eltyp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subtypeof Any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th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let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ListType lst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Integer  elindex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ListType lst3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eplaceable type Eltype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subtypeof Any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type ListType = list&lt;Eltype&gt;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Delete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03040" y="19368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Function Formal Parame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03040" y="1125360"/>
            <a:ext cx="875052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s can be passed as actual arguments at function cal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checking done on the function formal parameter type signature, not including the actual names of inputs and outputs to the passed func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58840" y="2111400"/>
            <a:ext cx="8885160" cy="1847880"/>
            <a:chOff x="258840" y="2111400"/>
            <a:chExt cx="8885160" cy="1847880"/>
          </a:xfrm>
        </p:grpSpPr>
        <p:sp>
          <p:nvSpPr>
            <p:cNvPr id="227" name=""/>
            <p:cNvSpPr/>
            <p:nvPr/>
          </p:nvSpPr>
          <p:spPr>
            <a:xfrm>
              <a:off x="401760" y="2135160"/>
              <a:ext cx="8742240" cy="182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58840" y="2111400"/>
              <a:ext cx="8742240" cy="182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intListMap   "Map over a list of integers"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 Functype func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 list&lt;Integer&gt; inlst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list&lt;Integer&gt; outlst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artial function Functype input Integer x1; output Integer x2; end Functyp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lgorithm  ..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intListMap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17440" y="3975120"/>
            <a:ext cx="8926560" cy="2144520"/>
            <a:chOff x="217440" y="3975120"/>
            <a:chExt cx="8926560" cy="2144520"/>
          </a:xfrm>
        </p:grpSpPr>
        <p:sp>
          <p:nvSpPr>
            <p:cNvPr id="230" name=""/>
            <p:cNvSpPr/>
            <p:nvPr/>
          </p:nvSpPr>
          <p:spPr>
            <a:xfrm>
              <a:off x="378000" y="4033800"/>
              <a:ext cx="8766000" cy="20858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7440" y="3975120"/>
              <a:ext cx="8766360" cy="208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8600" y="3979800"/>
              <a:ext cx="870732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listMap    "Map over a list o elements of Type_a, a type parameter"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 Functype func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 list&lt;Type_a&gt; inlst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 list&lt;Type_a&gt; outlst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eplaceable type Type_a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artial function Functype  input Type_a x1; output Type_a x2; end Functyp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lgorithm  ..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listMap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03040" y="-19080"/>
            <a:ext cx="89409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Calling Functions with Function Formal Parameters and/or Parameterized Typ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3040" y="1125360"/>
            <a:ext cx="8750520" cy="16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 with passed function arguments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_list_map(add1,intlst1)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ared using type I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iler uses type inference to derive type of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laceable type paramet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_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 Integ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input list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&lt;Integer&gt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stMap(add1, intlst1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41200" y="2933640"/>
            <a:ext cx="8636040" cy="1460520"/>
            <a:chOff x="241200" y="2933640"/>
            <a:chExt cx="8636040" cy="1460520"/>
          </a:xfrm>
        </p:grpSpPr>
        <p:sp>
          <p:nvSpPr>
            <p:cNvPr id="236" name=""/>
            <p:cNvSpPr/>
            <p:nvPr/>
          </p:nvSpPr>
          <p:spPr>
            <a:xfrm>
              <a:off x="396720" y="2973240"/>
              <a:ext cx="8480520" cy="1420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1200" y="2933640"/>
              <a:ext cx="8480520" cy="142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2360" y="2938320"/>
              <a:ext cx="84232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// call function intListMap   "Map over a list of integers"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1 := {1,3,5,9}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tlst2 := intListMap(add1, intlst1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54160" y="4559400"/>
            <a:ext cx="8673840" cy="1638360"/>
            <a:chOff x="254160" y="4559400"/>
            <a:chExt cx="8673840" cy="1638360"/>
          </a:xfrm>
        </p:grpSpPr>
        <p:sp>
          <p:nvSpPr>
            <p:cNvPr id="240" name=""/>
            <p:cNvSpPr/>
            <p:nvPr/>
          </p:nvSpPr>
          <p:spPr>
            <a:xfrm>
              <a:off x="411120" y="4605480"/>
              <a:ext cx="8516880" cy="159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4160" y="4559400"/>
              <a:ext cx="8516880" cy="159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4960" y="4564080"/>
              <a:ext cx="84600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// call function listMap   "Map over a list of Type_a – a type parameter"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1 := {1,3,5,9}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2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tlst2 := listMap(add1, intlst1);  // The type parameter is inferred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Extensibility and Modularity of Modeling To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ing and simulation tools are too monolith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s and tools need to be extensible and modul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on, query, manipulation, composition and management of model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 for modeling of operations on 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74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74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Tuple Data Struc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3040" y="1125360"/>
            <a:ext cx="8775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ples are anonymous records without field na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ple&lt;...&gt; – tuple type constructor (keyword not need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type VarBND  = tuple&lt;Ident, Integer&gt;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tuple&lt;Real,Integer&gt; realintpair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..., ..., ...) – tuple data constru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(3.14, "this is a string"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ica functions with multiple results return tu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(a,b,c) := foo(x, 2, 3, 5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Option Type Construc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3040" y="1125360"/>
            <a:ext cx="8699760" cy="34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Op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type constructor, parameterized by some type (e.g.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Type_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) creates a kind of uniontype with the predefined constructor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NONE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SOME(...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consta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NONE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with no arguments automatically belongs to any option type. A constructor call such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SOME(x1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whe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x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has the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Type_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, has the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Option&lt;Type_a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ghly equivalent to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888840" y="4660920"/>
            <a:ext cx="7085160" cy="1371600"/>
            <a:chOff x="888840" y="4660920"/>
            <a:chExt cx="7085160" cy="1371600"/>
          </a:xfrm>
        </p:grpSpPr>
        <p:sp>
          <p:nvSpPr>
            <p:cNvPr id="248" name=""/>
            <p:cNvSpPr/>
            <p:nvPr/>
          </p:nvSpPr>
          <p:spPr>
            <a:xfrm>
              <a:off x="1015920" y="4699080"/>
              <a:ext cx="6958080" cy="13334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88840" y="4660920"/>
              <a:ext cx="6958080" cy="13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96760" y="4665600"/>
              <a:ext cx="69120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uniontype Optio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NONE  end NONE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SOME  Type_a x1;  end SOME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placeable type Type_a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subtypeof Any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nd Option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914400" y="2082960"/>
            <a:ext cx="6729480" cy="771480"/>
            <a:chOff x="914400" y="2082960"/>
            <a:chExt cx="6729480" cy="771480"/>
          </a:xfrm>
        </p:grpSpPr>
        <p:sp>
          <p:nvSpPr>
            <p:cNvPr id="252" name=""/>
            <p:cNvSpPr/>
            <p:nvPr/>
          </p:nvSpPr>
          <p:spPr>
            <a:xfrm>
              <a:off x="1035000" y="2103480"/>
              <a:ext cx="6608880" cy="750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14400" y="2082960"/>
              <a:ext cx="6608880" cy="75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920880" y="2085840"/>
              <a:ext cx="6567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replaceable type Type_a subtypeof Any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type Option_a = Option&lt;Type_a&gt;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03040" y="23184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Testing for Fail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3040" y="1087560"/>
            <a:ext cx="894096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local equation may fail or succe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builtin equation operat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ail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rg) succeeds i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ails, wher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a local equ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876240" y="4394160"/>
            <a:ext cx="6705720" cy="1164240"/>
            <a:chOff x="876240" y="4394160"/>
            <a:chExt cx="6705720" cy="1164240"/>
          </a:xfrm>
        </p:grpSpPr>
        <p:sp>
          <p:nvSpPr>
            <p:cNvPr id="258" name=""/>
            <p:cNvSpPr/>
            <p:nvPr/>
          </p:nvSpPr>
          <p:spPr>
            <a:xfrm>
              <a:off x="1025640" y="4427640"/>
              <a:ext cx="6292800" cy="9460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76240" y="4394160"/>
              <a:ext cx="6332760" cy="9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25560" y="4398840"/>
              <a:ext cx="6656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 ((id2,_) :: rest, id)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failure(true =  id ==&amp; id2);  value = lookup(rest,id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then valu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444600" y="3513240"/>
            <a:ext cx="396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, testing for failure in Modelica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dur="indefinite" fill="hold">
                      <p:stCondLst>
                        <p:cond delay="0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 fill="hold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Generating a fail "Exception"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ail(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ill fail the current case-branch in the match-expression and continue with the next branc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there are no more case-branches, the enclosing function will fai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expression or equation may fail for other reasons, e.g. division by zero, no match, unsolvable equation, etc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as-expressions in Pattern Expres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006560"/>
            <a:ext cx="914400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unbound local variable (declare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c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can be set equal to an expression in a pattern expression through an as-expresson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ar as subexp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 used to give another name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ubexp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ame variable may only be associated with one ex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value of the expression equation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ar as subexp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i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ubexp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(a as Absyn.IDENT("der"), expl,b,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match and matchcontin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1006560"/>
            <a:ext cx="9144000" cy="20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Modelica has two different match-expres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matchcontinue runs all matching cases in order until it finds one that succee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match runs only the first matching c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both are useful to describe different program fl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79280" y="3192480"/>
            <a:ext cx="5219640" cy="1847880"/>
            <a:chOff x="179280" y="3192480"/>
            <a:chExt cx="5219640" cy="1847880"/>
          </a:xfrm>
        </p:grpSpPr>
        <p:sp>
          <p:nvSpPr>
            <p:cNvPr id="269" name=""/>
            <p:cNvSpPr/>
            <p:nvPr/>
          </p:nvSpPr>
          <p:spPr>
            <a:xfrm>
              <a:off x="263520" y="3216240"/>
              <a:ext cx="5135400" cy="1824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9280" y="3192480"/>
              <a:ext cx="5135760" cy="182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notOne "Fails if the input is not 1"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 Integer i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_ := match i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ase 1 then fail()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// Do stuff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match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notOn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060720" y="3600360"/>
            <a:ext cx="5759280" cy="2698920"/>
            <a:chOff x="3060720" y="3600360"/>
            <a:chExt cx="5759280" cy="2698920"/>
          </a:xfrm>
        </p:grpSpPr>
        <p:sp>
          <p:nvSpPr>
            <p:cNvPr id="272" name=""/>
            <p:cNvSpPr/>
            <p:nvPr/>
          </p:nvSpPr>
          <p:spPr>
            <a:xfrm>
              <a:off x="3152880" y="3633840"/>
              <a:ext cx="5667120" cy="26654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60720" y="3600360"/>
              <a:ext cx="5667480" cy="266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 notOne "Fails if the input is not 1"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 Integer i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_ := matchcontinue i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ase i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// This constraint needs to be added to th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// beginning of every subsequent cas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alse = i == 1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// Do stuff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matchcontinu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notOne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ummary of New MetaModelica Reserved Wo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77840" y="1006560"/>
            <a:ext cx="896616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Underscore is a reserved word used as a pattern placeholder, name placeholder in anonymous functions, types, classes, etc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matc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s used in match-expression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matchcontinu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s used in matchcontinue-expression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s used in match/matchcontinue-expression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local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s used for local declarations in match expressions, etc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uniontyp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for union type declarations, e.g. tree data type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 for as-expressio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ummary of New Reserved Words Cont'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1006560"/>
            <a:ext cx="914400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uld be a reserved word, but this is not necessary since it is only 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(...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xpres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p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a predefined parameterized union typ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ummary of New Builtin Functions and Opera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3040" y="1125360"/>
            <a:ext cx="89409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&lt;...&gt; – list type constructor, in type contex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&lt;...&gt; – tuple type constructo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...) – list data constructor, in expression contex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ls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– attach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t front of list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ls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fail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) –  Raise fail exception, having null valu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..., ..., ...) o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..., ..., ...) – tuple data constructo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– List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perato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43080" y="1163520"/>
            <a:ext cx="8343720" cy="51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a-modeling increasingly important, also for the Modelica language and its applic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a-modeling/meta-programming extensions allow writing a Modelica compiler in Model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nsions are recursive union types (trees), lists, and match-expressions – standard constructs found in functional langu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nModelica compiler implemented using MetaModelica extensions since March 2006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otstrapping - Ongoing work to compile OpenModelica compiler using itself, completed winter 2010 - spring 201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ome Semantics Modeling Approa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3040" y="1125360"/>
            <a:ext cx="8382240" cy="53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nsibility - allow models to also model language proper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tologies to classify application domai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For example, semantic we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quation-based approa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odelica – hybrid differential algebraic eq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Single-assignment equations – functional languages, SOS/Natural semant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Unification equations: logic programming and functional languages, SOS/Natural semant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an usually be efficiently exec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ic approa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First-order log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ften computationally intractable for realistic applications in its general fo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Meta-Level Operations on 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 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re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Que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anip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ompos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ipulation of model equations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ptimization purpo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aralleliz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odel chec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Simulation with different solv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ula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llow model packages for tool exten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 Automatic PDE discretization sche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Meta-Level Operations on Models, Co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 configuration for simulation purpo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Initial st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Initialization via xml data files or databa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ulation fea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unning a simulation and display a resul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unning more simulations in parall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Handle simulation failures and continue the simulation in a different w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ossibility to generate ONLY specific data from a sim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ossibility to manipulate simulation data for export to another t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Meta-Modelica Compiler (MMC) and Langu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Modelica is an extende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ubse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Modeli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RML compiler supports only MetaModeli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OMC supports Modelica 3.1 + MetaModeli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d for development of OM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MetaModelica Language properti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Modelica syntax and base semantic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Pattern matching (named/positiona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Local equations (local within expression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Recursive tree data structur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Lists and tup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Garbage collection of heap-allocated dat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Arrays (different from standard Modelica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Vectors (array with local update as in standard Modelica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Polymorphic func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Function formal parameters to func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Simple builtin exception (failure) handling mechanis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A Simple match-Expression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3040" y="1125360"/>
            <a:ext cx="751860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, returning a number, given a string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282680" y="2120760"/>
            <a:ext cx="4051440" cy="2971800"/>
            <a:chOff x="1282680" y="2120760"/>
            <a:chExt cx="4051440" cy="2971800"/>
          </a:xfrm>
        </p:grpSpPr>
        <p:sp>
          <p:nvSpPr>
            <p:cNvPr id="102" name=""/>
            <p:cNvSpPr/>
            <p:nvPr/>
          </p:nvSpPr>
          <p:spPr>
            <a:xfrm>
              <a:off x="1355760" y="2281320"/>
              <a:ext cx="3978360" cy="2811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82680" y="2120760"/>
              <a:ext cx="3978360" cy="281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87360" y="2131920"/>
              <a:ext cx="395136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String s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Real   x;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x :=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matchcontinue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case "one"   then 1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case "two"   then 2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case "three" then 3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else              0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end matchcontinue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Tree Types – uniontype Declaration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3040" y="1125360"/>
            <a:ext cx="375768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on types specifies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one or more record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on types can b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curs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can reference themsel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xp type is a union type of three record typ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 constructors INT, NEG and AD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usage is abstract syntax tre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000680" y="1816200"/>
            <a:ext cx="5067000" cy="1460520"/>
            <a:chOff x="4000680" y="1816200"/>
            <a:chExt cx="5067000" cy="1460520"/>
          </a:xfrm>
        </p:grpSpPr>
        <p:sp>
          <p:nvSpPr>
            <p:cNvPr id="108" name=""/>
            <p:cNvSpPr/>
            <p:nvPr/>
          </p:nvSpPr>
          <p:spPr>
            <a:xfrm>
              <a:off x="4054320" y="1882800"/>
              <a:ext cx="5013360" cy="1393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00680" y="1816200"/>
              <a:ext cx="5013000" cy="139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06800" y="1822320"/>
              <a:ext cx="49798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uniontype Exp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INT  Integer x1;     end INT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NEG  Exp x1;         end NEG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ADD  Exp x1; Exp x2; end ADD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nd Exp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959280" y="127620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Modelica  tree type declarati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804360" y="3884760"/>
            <a:ext cx="1397880" cy="1285560"/>
            <a:chOff x="6804360" y="3884760"/>
            <a:chExt cx="1397880" cy="1285560"/>
          </a:xfrm>
        </p:grpSpPr>
        <p:sp>
          <p:nvSpPr>
            <p:cNvPr id="113" name=""/>
            <p:cNvSpPr/>
            <p:nvPr/>
          </p:nvSpPr>
          <p:spPr>
            <a:xfrm>
              <a:off x="7248600" y="3897360"/>
              <a:ext cx="412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ADD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04360" y="4543560"/>
              <a:ext cx="339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58080" y="4778280"/>
              <a:ext cx="14400" cy="1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58080" y="4956120"/>
              <a:ext cx="14400" cy="1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58080" y="4778280"/>
              <a:ext cx="14400" cy="177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931080" y="49417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863120" y="4543560"/>
              <a:ext cx="339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040600" y="4778280"/>
              <a:ext cx="14400" cy="18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40600" y="4956120"/>
              <a:ext cx="14400" cy="18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040600" y="4778280"/>
              <a:ext cx="14400" cy="1778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958160" y="49417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44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07440" y="388476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507440" y="415908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8" h="9">
                  <a:moveTo>
                    <a:pt x="8" y="9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9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58080" y="4557600"/>
              <a:ext cx="14400" cy="14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9" h="9">
                  <a:moveTo>
                    <a:pt x="9" y="9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9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58080" y="4159080"/>
              <a:ext cx="561960" cy="41292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54" h="260">
                  <a:moveTo>
                    <a:pt x="354" y="9"/>
                  </a:moveTo>
                  <a:lnTo>
                    <a:pt x="346" y="0"/>
                  </a:lnTo>
                  <a:lnTo>
                    <a:pt x="0" y="251"/>
                  </a:lnTo>
                  <a:lnTo>
                    <a:pt x="9" y="260"/>
                  </a:lnTo>
                  <a:lnTo>
                    <a:pt x="35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07440" y="415908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8" h="9">
                  <a:moveTo>
                    <a:pt x="8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055000" y="4557600"/>
              <a:ext cx="14400" cy="14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9" h="9">
                  <a:moveTo>
                    <a:pt x="9" y="0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07440" y="4159080"/>
              <a:ext cx="561960" cy="41292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54" h="260">
                  <a:moveTo>
                    <a:pt x="8" y="0"/>
                  </a:moveTo>
                  <a:lnTo>
                    <a:pt x="0" y="9"/>
                  </a:lnTo>
                  <a:lnTo>
                    <a:pt x="345" y="260"/>
                  </a:lnTo>
                  <a:lnTo>
                    <a:pt x="354" y="25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936960" y="4110120"/>
            <a:ext cx="29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(INT(6),INT(44)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03040" y="20628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Another uniontype Declaration of Exp Expres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240000" y="2165400"/>
            <a:ext cx="5751720" cy="2693880"/>
            <a:chOff x="3240000" y="2165400"/>
            <a:chExt cx="5751720" cy="2693880"/>
          </a:xfrm>
        </p:grpSpPr>
        <p:sp>
          <p:nvSpPr>
            <p:cNvPr id="134" name=""/>
            <p:cNvSpPr/>
            <p:nvPr/>
          </p:nvSpPr>
          <p:spPr>
            <a:xfrm>
              <a:off x="3300480" y="2287440"/>
              <a:ext cx="5691240" cy="25718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40000" y="2165400"/>
              <a:ext cx="5691240" cy="257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uniontype Exp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INTconst Integer x1;  end INTconst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PLUSop  Exp x1; Exp x2; end PLUSop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SUBop   Exp x1; Exp x2; end SUBop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MULop   Exp x1; Exp x2; end MULop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DIVop   Exp x1; Exp x2; end DIVop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 NEGop   Exp x1;         end NEGop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nd Exp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213000" y="1316160"/>
            <a:ext cx="57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tract syntax tree data type declaration of Exp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9360" y="4707000"/>
            <a:ext cx="29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+5*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42560" y="2158920"/>
            <a:ext cx="2989440" cy="2130480"/>
            <a:chOff x="142560" y="2158920"/>
            <a:chExt cx="2989440" cy="2130480"/>
          </a:xfrm>
        </p:grpSpPr>
        <p:sp>
          <p:nvSpPr>
            <p:cNvPr id="139" name=""/>
            <p:cNvSpPr/>
            <p:nvPr/>
          </p:nvSpPr>
          <p:spPr>
            <a:xfrm>
              <a:off x="144360" y="2158920"/>
              <a:ext cx="2987640" cy="21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03400" y="2158920"/>
              <a:ext cx="689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PLUSop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13400" y="2982960"/>
              <a:ext cx="64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MULop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2560" y="2982960"/>
              <a:ext cx="76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NTconst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4440" y="3218040"/>
              <a:ext cx="14040" cy="14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4440" y="3395520"/>
              <a:ext cx="14040" cy="1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4440" y="3218040"/>
              <a:ext cx="14040" cy="177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0200" y="33829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52080" y="3629160"/>
              <a:ext cx="76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NTconst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23960" y="3863880"/>
              <a:ext cx="14400" cy="18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23960" y="4041720"/>
              <a:ext cx="14400" cy="18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23960" y="3863880"/>
              <a:ext cx="14400" cy="1778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96960" y="40273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49000" y="3629160"/>
              <a:ext cx="76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NTconst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06840" y="3863880"/>
              <a:ext cx="14040" cy="18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6840" y="4041720"/>
              <a:ext cx="14040" cy="1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06840" y="3863880"/>
              <a:ext cx="14040" cy="1778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24040" y="40273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63680" y="2421000"/>
              <a:ext cx="14400" cy="126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9" h="8">
                  <a:moveTo>
                    <a:pt x="9" y="8"/>
                  </a:moveTo>
                  <a:lnTo>
                    <a:pt x="9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1440" y="297036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9" h="8">
                  <a:moveTo>
                    <a:pt x="9" y="8"/>
                  </a:moveTo>
                  <a:lnTo>
                    <a:pt x="9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440" y="2421000"/>
              <a:ext cx="836640" cy="561960"/>
            </a:xfrm>
            <a:custGeom>
              <a:avLst/>
              <a:gdLst>
                <a:gd name="textAreaLeft" fmla="*/ 0 w 836640"/>
                <a:gd name="textAreaRight" fmla="*/ 837000 w 83664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527" h="354">
                  <a:moveTo>
                    <a:pt x="527" y="8"/>
                  </a:moveTo>
                  <a:lnTo>
                    <a:pt x="518" y="0"/>
                  </a:lnTo>
                  <a:lnTo>
                    <a:pt x="0" y="346"/>
                  </a:lnTo>
                  <a:lnTo>
                    <a:pt x="9" y="354"/>
                  </a:lnTo>
                  <a:lnTo>
                    <a:pt x="52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3680" y="2421000"/>
              <a:ext cx="14400" cy="126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9" h="8">
                  <a:moveTo>
                    <a:pt x="9" y="0"/>
                  </a:moveTo>
                  <a:lnTo>
                    <a:pt x="9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73320" y="297036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63680" y="2421000"/>
              <a:ext cx="822240" cy="56196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518" h="354">
                  <a:moveTo>
                    <a:pt x="9" y="0"/>
                  </a:moveTo>
                  <a:lnTo>
                    <a:pt x="0" y="8"/>
                  </a:lnTo>
                  <a:lnTo>
                    <a:pt x="510" y="354"/>
                  </a:lnTo>
                  <a:lnTo>
                    <a:pt x="518" y="3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73320" y="324468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8" h="9">
                  <a:moveTo>
                    <a:pt x="8" y="9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9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3960" y="3643200"/>
              <a:ext cx="14400" cy="14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9" h="9">
                  <a:moveTo>
                    <a:pt x="9" y="9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9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23960" y="3244680"/>
              <a:ext cx="561960" cy="41292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54" h="260">
                  <a:moveTo>
                    <a:pt x="354" y="9"/>
                  </a:moveTo>
                  <a:lnTo>
                    <a:pt x="346" y="0"/>
                  </a:lnTo>
                  <a:lnTo>
                    <a:pt x="0" y="251"/>
                  </a:lnTo>
                  <a:lnTo>
                    <a:pt x="9" y="260"/>
                  </a:lnTo>
                  <a:lnTo>
                    <a:pt x="35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73320" y="324468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8" h="9">
                  <a:moveTo>
                    <a:pt x="8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20880" y="3643200"/>
              <a:ext cx="14400" cy="14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9" h="9">
                  <a:moveTo>
                    <a:pt x="9" y="0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73320" y="3244680"/>
              <a:ext cx="561960" cy="41292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54" h="260">
                  <a:moveTo>
                    <a:pt x="8" y="0"/>
                  </a:moveTo>
                  <a:lnTo>
                    <a:pt x="0" y="9"/>
                  </a:lnTo>
                  <a:lnTo>
                    <a:pt x="345" y="260"/>
                  </a:lnTo>
                  <a:lnTo>
                    <a:pt x="354" y="25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66760" y="5430960"/>
            <a:ext cx="56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USop(INTconst(12)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ULop(INTconst(5),INTconst(13))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0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3:07:46Z</dcterms:created>
  <dc:creator>Peter Fritzson</dc:creator>
  <dc:description/>
  <dc:language>en-US</dc:language>
  <cp:lastModifiedBy>Martin Sjölund</cp:lastModifiedBy>
  <dcterms:modified xsi:type="dcterms:W3CDTF">2009-10-21T09:02:41Z</dcterms:modified>
  <cp:revision>570</cp:revision>
  <dc:subject/>
  <dc:title>Slide 1</dc:title>
</cp:coreProperties>
</file>